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27C-D087-445E-88EF-F6008492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895-52D6-44D0-B149-51BC7F4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D309A-E55E-4C00-B360-7AEDCB7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8A684-8C73-47D8-971F-A7120982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0D2B7-8250-4463-B59A-8D75E8C5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345A6-A5D5-40D0-B636-D57D7C1C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84243-0533-456B-931C-0B3ED90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1CCC1-BBA2-4357-B693-ACBA3EC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C4E0A-5A0C-4F79-A1AC-E219E2F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B204C-7EC9-42E4-B8BF-86CA27D4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5A7FE-4469-4F97-9C35-8E06C5A3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EA582-0497-4BD1-9DBB-2480FDDD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F6F-2390-4932-8C31-5F733CC4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17027-E4BF-4FAC-8A8A-F8C22046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D2EC-E88C-4810-AAD1-FD849CD0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B9CA6-F376-4236-A853-5FD0950D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A1C7B-1626-42FD-906D-0E360FF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F016B-2BA3-4DF5-B940-29C8D38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DC8F2-3A3F-40E5-834E-DE9945AA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17791-75B3-4743-B42B-C7C8436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FD94-5061-4387-8174-6A35AAF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0F414-DF79-4CE8-A950-79B49C4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9B60C-129D-4F0B-A264-C6D23927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16A-999A-4095-9FF7-50B907D1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46E60-2027-4D84-A7F5-05F1BDD5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6D93D6-5BBA-41F5-A728-0C747445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7386AB-62D9-4A13-8552-15EE1F05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8EB636-AC77-4091-B77C-164A33F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7BF9DF-F9E4-480A-82F5-38D19553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07C5FE-6C10-42AC-8DE2-CFD01255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7A7E9-0EBA-4EFB-8D3D-391586F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26272-8787-4A97-9C41-1CF5C02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EBD435-3277-40CF-B4AD-FED6CD6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C81A05-44C3-460D-BFAC-B8132B7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59D-7674-45F3-8A6F-408B93B7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D0F17-AE4C-4E45-8BA9-83D99C0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C24F66-27F3-4A8C-832B-356C87BF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E70C59-6DB9-4211-9405-DA7D38CE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EDD76-DACE-4289-97E3-90220C1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3F7B-5BC7-44FC-A73D-18CE96E3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12FF6-08D3-4F28-932E-185FF67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A1C91-2E9C-4735-90A3-96CFA835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93AB3-AFD0-451A-8F0C-976521DF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0C22-7038-4029-B56E-80B993E0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8ED23-80FC-4AB9-9AD1-448333BF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A15-5446-4E88-B8B6-7E80781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21573-155F-4E8B-9E4B-A2C713B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5B963-DA01-4154-BB38-9CCCB33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B4FAD-EADA-400A-971B-57E87BD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75B1-BAAA-43A4-825E-6EB2837A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07D03-8464-4F81-A489-B4447742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A80A-6839-44B2-895C-64E767A2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9CA1-93C9-4276-B291-96E4FD3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A5CE-D6F9-4FC7-9641-71F44D0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B10-94E3-4044-85B9-8E5B534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8A49-6F2A-4CD4-BBAC-AC58C62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A98-AEA2-4683-B018-22A0697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5254-E35F-49A6-931D-5092B8A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959-691C-4C5F-A543-2574701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A4D7-415F-40D9-B558-4BBF64DB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AA0A-5CCB-41CF-BEF7-B7C96027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DAD0-7097-46E8-9AF3-42A38AC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9AF7-FF42-4920-BC3A-2CE2E85C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7841-9050-409F-9838-4F91DE9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38FA-F280-4376-A881-9F66FF2F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0A30-9F40-45B7-869B-E58C5BF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C827-98AE-4CEF-AC4A-C4DECE9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8E3-38CD-458E-B7B8-D79762A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9EF9-B512-458E-9B94-1ADE1A95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B3B0-CA22-4B5C-90DF-8E82FB9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66F1-E7B2-47EC-9F5F-7544FCDF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63F2-75EC-4F91-B13C-3169080C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7CA8-D409-4152-BBAE-F944BECF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3D60-6FAB-4271-AC92-F76E4079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83EB-32A4-4991-9551-C01FA5A3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ADDE-8BC1-46E4-9903-BCE23B99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D3F9-46C4-4F43-8B8C-E441E4C9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90FC-9D70-4BA3-B5D9-176D16E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D7D-3AA7-406F-9296-1AB3EF0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3CC0-F98B-448A-848E-FED7823B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20902-69D3-4E57-B82A-6FFC951C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44D2-C7B9-4694-8934-C498D15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5325-7A42-4A6F-91D6-3E24EFC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4AFA-4952-46CB-BBAF-F44E80A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691A-29CA-4367-938A-431935B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D0B2-EDBD-40C0-9FA4-0CBC0825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A9EB9-99B7-456F-BD7F-7FFDC4B5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33131-D661-4395-B6F7-F834E77D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8830-0F44-4A6D-ADE9-CB01A137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905-74C2-46C6-AD80-9FE839A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DE6A-C6C7-4581-B689-08D840C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BAE05-949A-403C-B50C-7A36AE33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82C5-FEF9-488A-88BC-805BCCA4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64BC-4806-4256-854F-540FE864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D403-962F-4D07-BF49-7ABCA2C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B5AEC-8F7E-4CA3-A147-25B0C38C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A13E-636C-4218-9BC8-4FC5935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A4BA-CE02-4972-BB61-8701037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5D5A-A80D-433C-BDFB-3988FD90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38E4-01CC-40FA-9EA6-8D66A809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536-5C0F-4959-BDBD-55684CF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34B7-D6CE-4EEA-A339-B13F1CF0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9283E-909C-47B1-9FCA-15E4A3F5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D1280-3E18-44F6-9F06-78A8025E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B93D7-02A5-4145-805F-D91622B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210A0-4124-4F63-9046-A6382DEB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EC021-C3F6-4DD7-9848-7348D151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14A17-C6D9-4214-B544-7E51DBC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A3017-1E8D-41DD-9D03-89F10AD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C4971-3B2E-4823-84F9-B81ECE92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44FB1-B68A-4371-A337-C54BBF8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D12-61F3-40F0-8EA3-9370172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5A0C3A-4847-4D17-82D7-AFD1C035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200FE-22AD-4D06-A6DB-F9F9E857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432997-670D-40E9-8B7E-F7F881B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B2B02-AC5B-4CB0-8526-33EE5358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45E6-EDAA-4929-AB06-799256DC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B425-D94B-4855-AFB6-0C5B86E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3FDB-DAB7-4079-96FC-19AAC57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230B-71F1-48B3-A6EB-8138362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D606-044B-4F9F-ADFA-B066DB4B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DE6C-7BFF-4986-AB4E-4468EF9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8BF-8349-41CD-A5D8-81ECFC8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8E40-8468-45D6-8160-C8FA578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44E9-1B95-46A5-8AD2-C955D742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A6602-95FF-471F-B363-2EB6AA3E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38CE6-97BA-4807-82AA-81CBC3DD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791C-DDBA-43FE-B6E9-AE756C8D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AB31-470D-4D13-99DE-60E2011C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A1697-A98B-4B0A-9405-D2136DD0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7B1B3-BB42-4574-A8C5-33D0CC8D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E09AA-C199-4D7E-A81A-F1843BC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324A-7CA9-4444-9F59-F002520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029-FE9A-490F-B416-D62B8C4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755A5-99C8-4118-BA7D-634B6E53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6D814-7BA8-4DFD-80B5-A77F0BF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A8175-7B86-4947-8102-FC06381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ABDBE-920F-4DBD-8149-7400ADFA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96C5B-AF57-4565-9498-6F0BB5B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C7E6D-C8C4-44D2-9680-CFF6F267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3610-2AEE-47CC-B467-13054F63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5CC2B-62A6-43C6-8010-C9093E54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D5AE3-778F-4421-8669-2FCC17B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4C7C8-E0D6-49E2-8AC3-6D1A2161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57D-38AA-473F-A6E9-C40349C0E3C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037D-5B9D-4629-9CB9-7F561513208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0CB-B78F-4BDF-802F-D3FEF4EB94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1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1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1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DAAE-0362-4734-B80C-C3A4E790E3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E19D-91A3-4813-BCA6-D23F51B09537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ECF2-8DCB-490D-83AF-0823C55E0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Garamond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1798-06F7-47FF-BD81-4D46B316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3591-FFAB-4711-BB92-538E7786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8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E1C-7468-40D2-BA2D-50350D41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653D-4653-4F1A-980D-17F078A719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95AD-1B20-40B6-A3D3-E534F2ACFD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E8E6-4DCA-4A34-9224-62BD00AF22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4920" y="1219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Mi vacacion en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af273e"/>
                </a:solidFill>
                <a:latin typeface="Verdana"/>
              </a:rPr>
              <a:t>Ponce, puerto rico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194520" y="4908600"/>
            <a:ext cx="21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By:Tatiana Tinsley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552840" cy="250488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73852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 Hot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la mam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Hoy llego a mi hotel. Esta en Ponce, Puerto Rico. Esta muy bonita y grande. Tiene una domintorio gra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os y abrazos 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639040" cy="22719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810400" y="4629240"/>
            <a:ext cx="3333600" cy="22287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980720" y="-15264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Querido Laur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y buen tiempo. La agua es muy bonita y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lient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y yo fui bucar . yo neccesto una toalla playera. Yo mire mucho pescados. No mire u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iburón. Un fuerte abraz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" descr="snorkeling in puerto rico"/>
          <p:cNvPicPr/>
          <p:nvPr/>
        </p:nvPicPr>
        <p:blipFill>
          <a:blip r:embed="rId1"/>
          <a:stretch/>
        </p:blipFill>
        <p:spPr>
          <a:xfrm rot="850200">
            <a:off x="6934320" y="151920"/>
            <a:ext cx="2209680" cy="1478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Dive 1"/>
          <p:cNvPicPr/>
          <p:nvPr/>
        </p:nvPicPr>
        <p:blipFill>
          <a:blip r:embed="rId2"/>
          <a:stretch/>
        </p:blipFill>
        <p:spPr>
          <a:xfrm>
            <a:off x="152280" y="152280"/>
            <a:ext cx="1714680" cy="1162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snorkeling 1"/>
          <p:cNvPicPr/>
          <p:nvPr/>
        </p:nvPicPr>
        <p:blipFill>
          <a:blip r:embed="rId3"/>
          <a:stretch/>
        </p:blipFill>
        <p:spPr>
          <a:xfrm>
            <a:off x="7238880" y="53341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aqua adventure Puerto Rico"/>
          <p:cNvPicPr/>
          <p:nvPr/>
        </p:nvPicPr>
        <p:blipFill>
          <a:blip r:embed="rId4"/>
          <a:stretch/>
        </p:blipFill>
        <p:spPr>
          <a:xfrm rot="1098600">
            <a:off x="151920" y="5181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snorkeling in puerto rico"/>
          <p:cNvPicPr/>
          <p:nvPr/>
        </p:nvPicPr>
        <p:blipFill>
          <a:blip r:embed="rId5"/>
          <a:stretch/>
        </p:blipFill>
        <p:spPr>
          <a:xfrm>
            <a:off x="3962520" y="5181480"/>
            <a:ext cx="19238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Querida mama ,</a:t>
            </a:r>
            <a:endParaRPr b="0" lang="en-US" sz="24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Ayer yo hable con un muchacho y  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más tarde nosotros fuimos la playa. Lo praticar el surf y yo nade. Entonces nosotros fuimos el esqui acuatico. Hoy nostoros fuimos tabla hawaiana y esquiar en el agua. Buen tiempo y el sol brilla . Yo necesto una el traje de bano y la toalla playera</a:t>
            </a:r>
            <a:r>
              <a:rPr b="0" lang="es-ES" sz="3200" spc="-1" strike="noStrike">
                <a:solidFill>
                  <a:srgbClr val="ffffff"/>
                </a:solidFill>
                <a:latin typeface="Bradley Hand ITC"/>
              </a:rPr>
              <a:t>. </a:t>
            </a:r>
            <a:r>
              <a:rPr b="0" lang="es-ES" sz="2400" spc="-1" strike="noStrike">
                <a:solidFill>
                  <a:srgbClr val="ffffff"/>
                </a:solidFill>
                <a:latin typeface="Bradley Hand ITC"/>
              </a:rPr>
              <a:t>Más tarde nosotros compramos ropa para la fiesta mañana.</a:t>
            </a:r>
            <a:endParaRPr b="0" lang="en-US" sz="24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radley Hand ITC"/>
              </a:rPr>
              <a:t>Besos y abrazo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, 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Tati </a:t>
            </a:r>
            <a:endParaRPr b="0" lang="en-US" sz="32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72200" y="4724280"/>
            <a:ext cx="2695680" cy="1695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1299600" y="4724280"/>
            <a:ext cx="13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Querida mam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y buen tiempo. Yo relajé. Mire television mucho. Entonces, fui a la casa de mi amigo y nosotros nadamos en la piscina. Antes de nadar,  compramos y gastamos mucho dinero  Más tarde mi amigo y yo fuimos a la fiesta y nosotros bailamos mucho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Un fuerte abrazo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Ta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3952800" cy="29433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 rot="1129200">
            <a:off x="5867280" y="26668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2514600" cy="2202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6305400" y="4729320"/>
            <a:ext cx="28386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352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radley Hand ITC"/>
              </a:rPr>
              <a:t>Querido Laura, 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Hoy fui la playa </a:t>
            </a:r>
            <a:r>
              <a:rPr b="0" lang="es-ES" sz="2800" spc="-1" strike="noStrike">
                <a:solidFill>
                  <a:srgbClr val="ffffff"/>
                </a:solidFill>
                <a:latin typeface="Bradley Hand ITC"/>
              </a:rPr>
              <a:t>otra vez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. Necesto una toalla de playa , grafas de sol, y crema protectora. Hace calor y hace sol. Mi amigo nadar y yo tomar el sol.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Bradley Hand ITC"/>
              </a:rPr>
              <a:t>Cariñosos saludos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,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Tati</a:t>
            </a:r>
            <a:endParaRPr b="0" lang="en-US" sz="28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Querido Laur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Hoy llueve . Yo fui a jugar al tenis. En  la cancha de tenis cubierta. Necesito un raqueta, pelota y red. Yo jugué  singles.  Yo golpeé  el pelota. Yo gané. Más tarde jugué baloncesto con mi amigo Jaun.  Yo pasé el pelota a mi amigo y lo dribló y entonces lo marc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Un fuerte abraz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a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 rot="1407600">
            <a:off x="5334120" y="609120"/>
            <a:ext cx="3371760" cy="2495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 rot="20614200">
            <a:off x="4038480" y="2819160"/>
            <a:ext cx="2981520" cy="23428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232416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Querido Laur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Hoy  preparé ir a mi casa. Que estaba bien aquí. El muchachos son bueno . Fuí a compras otra vez. Entonces yo fuí a mi sala a demas. Yo no fui visté un museo, quizás la próxima vez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Adi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T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40:33Z</dcterms:created>
  <dc:creator>tinsleybusbytat</dc:creator>
  <dc:description/>
  <dc:language>en-US</dc:language>
  <cp:lastModifiedBy>tinsleybusbytat</cp:lastModifiedBy>
  <dcterms:modified xsi:type="dcterms:W3CDTF">2011-11-30T17:02:34Z</dcterms:modified>
  <cp:revision>12</cp:revision>
  <dc:subject/>
  <dc:title>Slide 1</dc:title>
</cp:coreProperties>
</file>